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7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2.gif" ContentType="image/gif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8F8-EC6C-4343-B44C-D9891C8F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A5E-4A02-4871-B3E5-74FF970F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CAB-F5A2-4DC4-AC87-3DE67A37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D23-3443-455F-BD70-90D2D3D5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0041-C831-4145-A818-EA4EAFE0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EE9C-4643-467B-B5A5-9D1557B9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E6A1-FBC4-44CA-9B87-648D9EB1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4D07-E48B-4B27-B2F8-5B0ED080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0E82-6E13-4BB5-BE8B-D7EAD547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68DF-50FE-48D5-B5DA-B58BD5E5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0C77-9F27-46CD-9044-25F4EB10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0D7C-5F6F-47DB-BD3F-1ABE2FDF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916D-D1D0-4C95-BBBC-E68A9A4E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3F97-DF1A-4570-9E77-2819DB24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5F60-926F-4C98-B9BB-71445301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0C8A-D04A-4115-A49C-059921C5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AE2D-6B22-4D93-910C-E26EA8C5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AD39-18AB-4D51-84AC-8842DFBB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9C9-572B-40BA-9F34-2E482D1B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D74-A8CA-43CD-9CAF-4F401629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9FE-C07B-4821-8D5E-A969AA44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B40C-0A37-4086-B97D-B9030869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425B-3080-4465-A28E-54A39D28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7234-B95A-45F2-9063-BA7C3ADE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E76B-AA65-4AE5-A097-07B4DD51AC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5426-15E3-41AD-B304-D473367679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6.5:  The Rise of Segreg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.E.B. Du Boi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ality on all levels is long overd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A Harvard gradu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 after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web_dubois_1918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888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Harpers3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odust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 migration of newly freed blacks from the south to Kan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893960" y="2103480"/>
            <a:ext cx="5357880" cy="2590920"/>
            <a:chOff x="1893960" y="2103480"/>
            <a:chExt cx="5357880" cy="2590920"/>
          </a:xfrm>
        </p:grpSpPr>
        <p:sp>
          <p:nvSpPr>
            <p:cNvPr id="146" name=""/>
            <p:cNvSpPr/>
            <p:nvPr/>
          </p:nvSpPr>
          <p:spPr>
            <a:xfrm>
              <a:off x="1893960" y="2103480"/>
              <a:ext cx="5357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93960" y="2103480"/>
              <a:ext cx="535788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64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8" name="exoduster-pic" descr=""/>
          <p:cNvPicPr/>
          <p:nvPr/>
        </p:nvPicPr>
        <p:blipFill>
          <a:blip r:embed="rId2"/>
          <a:stretch/>
        </p:blipFill>
        <p:spPr>
          <a:xfrm>
            <a:off x="1752480" y="2197080"/>
            <a:ext cx="579132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Black Republican Rule”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a that spread throughout the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poor whites aligned w/A.A. in the Populist party, then A.A. would have more of a say in ever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Voting in the South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l taxes -$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eracy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father cl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ona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50623976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egregation in the South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gregation – separation of r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rimination – better treatment of one group on a basis other than mer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m Crow Laws- laws created to enforce segre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8000" y="2023920"/>
            <a:ext cx="9001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drinking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41972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USAjimcrow1" descr=""/>
          <p:cNvPicPr/>
          <p:nvPr/>
        </p:nvPicPr>
        <p:blipFill>
          <a:blip r:embed="rId1"/>
          <a:stretch/>
        </p:blipFill>
        <p:spPr>
          <a:xfrm>
            <a:off x="4724280" y="0"/>
            <a:ext cx="3486240" cy="4191120"/>
          </a:xfrm>
          <a:prstGeom prst="rect">
            <a:avLst/>
          </a:prstGeom>
          <a:ln w="0">
            <a:noFill/>
          </a:ln>
        </p:spPr>
      </p:pic>
      <p:pic>
        <p:nvPicPr>
          <p:cNvPr id="161" name="thejimcrowlaws-front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2879640" cy="31082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1852560"/>
            <a:ext cx="8751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2480" rIns="44280" tIns="-4392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852560"/>
            <a:ext cx="5715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2480" rIns="44280" tIns="-4392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2480" rIns="44280" tIns="-4392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2480" rIns="44280" tIns="-4392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civil-rights-movement-3" descr="Linda Brown with her parents Leola and Oliver and little sister Terry in front of their house."/>
          <p:cNvPicPr/>
          <p:nvPr/>
        </p:nvPicPr>
        <p:blipFill>
          <a:blip r:embed="rId3"/>
          <a:stretch/>
        </p:blipFill>
        <p:spPr>
          <a:xfrm>
            <a:off x="0" y="3703680"/>
            <a:ext cx="4572000" cy="3154320"/>
          </a:xfrm>
          <a:prstGeom prst="rect">
            <a:avLst/>
          </a:prstGeom>
          <a:ln w="0">
            <a:noFill/>
          </a:ln>
        </p:spPr>
      </p:pic>
      <p:pic>
        <p:nvPicPr>
          <p:cNvPr id="167" name="whitesonly" descr=""/>
          <p:cNvPicPr/>
          <p:nvPr/>
        </p:nvPicPr>
        <p:blipFill>
          <a:blip r:embed="rId4"/>
          <a:stretch/>
        </p:blipFill>
        <p:spPr>
          <a:xfrm>
            <a:off x="6400800" y="4371840"/>
            <a:ext cx="2911320" cy="24861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Jim Crow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989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Times New Roman"/>
              </a:rPr>
              <a:t>Plessy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 v. </a:t>
            </a:r>
            <a:r>
              <a:rPr b="0" i="1" lang="en-US" sz="3600" spc="-1" strike="noStrike">
                <a:solidFill>
                  <a:srgbClr val="ffcc00"/>
                </a:solidFill>
                <a:latin typeface="Times New Roman"/>
              </a:rPr>
              <a:t>Ferguso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the doctrine of “separate but equ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re anything wrong with this doctri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lessy" descr=""/>
          <p:cNvPicPr/>
          <p:nvPr/>
        </p:nvPicPr>
        <p:blipFill>
          <a:blip r:embed="rId1"/>
          <a:stretch/>
        </p:blipFill>
        <p:spPr>
          <a:xfrm>
            <a:off x="4565520" y="0"/>
            <a:ext cx="457848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A Respo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a B. Well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paigned against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ynch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hangings without proper court procee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ida_b_wells" descr="ida_b_wells"/>
          <p:cNvPicPr/>
          <p:nvPr/>
        </p:nvPicPr>
        <p:blipFill>
          <a:blip r:embed="rId2"/>
          <a:stretch/>
        </p:blipFill>
        <p:spPr>
          <a:xfrm>
            <a:off x="4800600" y="1981080"/>
            <a:ext cx="3637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ooker T. Washingt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on economic equality not civil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y criticized for being an “Uncle Tom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 into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booker-t-washington-150x210" descr="Booker T. Washington"/>
          <p:cNvPicPr/>
          <p:nvPr/>
        </p:nvPicPr>
        <p:blipFill>
          <a:blip r:embed="rId1"/>
          <a:stretch/>
        </p:blipFill>
        <p:spPr>
          <a:xfrm>
            <a:off x="5029200" y="1828800"/>
            <a:ext cx="33066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0-10-11T00:31:32Z</dcterms:modified>
  <cp:revision>3</cp:revision>
  <dc:subject/>
  <dc:title>PowerPoint Presentation</dc:title>
</cp:coreProperties>
</file>